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3425-2D4A-4DD6-85A0-0E7FF97D1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70D-52F5-409B-9959-4969AD8A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129-35B0-406A-B2F4-8BA15FED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FD8-CBE7-463F-8224-904E3EF2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A92-B45E-4014-85ED-B056F7AD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045-DEFD-4363-A007-EB106406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4C6-A0A4-482B-9235-0571EFA7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FF5-DCE8-4C14-A49D-52878D1E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D55-8032-45C3-AA57-A4ABC983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935-5347-47D2-A9AC-5F1B33F6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097-B9E1-453D-B5D0-CDFD3C51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CF6-EECB-4CB5-AA9E-6A828F73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101-2D8A-4AD7-9C8D-0DF680A8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274C-27E4-4EC4-9417-782916772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Fai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acob Hab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gender is better at looking at Sierra Mist and Sprite and telling the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females will be able to tell the difference better than 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c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rra M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I will pour Sprite in one cup and Sierra Mist in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I will have them look at the cups for 20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they will tell me which one they think is Sprite and Sierra M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: I tally th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838080" y="2819520"/>
          <a:ext cx="7315200" cy="3105000"/>
        </p:xfrm>
        <a:graphic>
          <a:graphicData uri="http://schemas.openxmlformats.org/drawingml/2006/table">
            <a:tbl>
              <a:tblPr/>
              <a:tblGrid>
                <a:gridCol w="1938600"/>
                <a:gridCol w="1490400"/>
                <a:gridCol w="405000"/>
                <a:gridCol w="947520"/>
                <a:gridCol w="949320"/>
                <a:gridCol w="158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d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an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incorrect. Males were able to tell the difference better than fe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3:25:47Z</dcterms:created>
  <dc:creator>USD376</dc:creator>
  <dc:description/>
  <dc:language>en-US</dc:language>
  <cp:lastModifiedBy>USD376</cp:lastModifiedBy>
  <dcterms:modified xsi:type="dcterms:W3CDTF">2010-05-06T14:16:04Z</dcterms:modified>
  <cp:revision>7</cp:revision>
  <dc:subject/>
  <dc:title>Science fair project</dc:title>
</cp:coreProperties>
</file>